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30CA-B4F7-4C82-8551-94DAD4CE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3DCB-BD8E-4D85-92EF-AF516ABE9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8327-58B4-4FC4-945C-5EB6A4B795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63D-EBCE-4FD8-91A0-4C934DA07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4B18-F104-46CB-B6A9-F2B830485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72A-A75B-4AC1-B9A1-ACDF8A26B8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1CF-8E91-4295-BE92-3EAE92D75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6530-09F7-4EA8-A5BF-FB29A03A8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56B4-BC26-4909-8821-4CAA4F4F0A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F8E-901D-4FCB-99E2-17759FC28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BAC3-9AD2-42C0-B145-BAA887E0B4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69B9-6FD6-4875-BAA0-88B2DA857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76A2-705F-47A7-9B4E-19B82A7C31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F96E-2014-4217-AF5D-CA59202B73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A918-B66D-4D52-A44D-73264030B5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17A-7543-414D-BEA5-638D7AEB7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951-049D-4805-A54F-DE39FC7D3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163-13A0-4714-BB50-4E200654D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2220-420F-4D89-8AD1-56BA9856DB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A304-EB91-4EEB-BA59-BD677A47E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B0E3-6918-4437-BB4C-5FA5F8F64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39D0-6E60-462F-8E17-46FC41879C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1640-A9CB-4A53-B43F-169A8CC1F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A30-24DF-4CF2-9386-9404BFD17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2E3-E4C5-4651-A55A-0C6B4CC77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C602-C7EB-449C-9DCD-38D4D51768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3E1B-6EFE-4CFD-9BD4-910329EFF7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671-2471-4426-9331-E3433D5D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038-B702-47B0-A233-1E18510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0B9-37CA-4F6A-8D6C-5EA897B5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B4A-EC80-4878-A43A-CB6169FD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085-5C7E-4AD9-AF8D-856BA115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9E3-9A9C-4877-8E9A-633405F9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0DB-BED4-4881-9213-F430264E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99F-B16D-4C03-9273-134C796B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37C-F1AB-4D33-BDE3-724F93D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E39-3D7E-44D8-9E0B-4BF594C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304-4E5F-46A3-B856-F3B5928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062-E554-46C8-9BA1-F13D02DF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2632-A1E7-4D18-97FB-DBFF21C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03B4-DABE-4C40-8C86-5F07DBB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6A3E-77B3-4416-89CE-6E85E05D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5340-B066-4379-98D8-0AB971DB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81F9-DA3B-42CA-A853-6718D57C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E7FA-352B-43AB-B3C7-7763CF5F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E1F8-714F-4B55-BC2B-9AC7951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E56C-8DCD-4719-B7AA-73CEEE7D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BCC9-F4C0-46CB-8692-E45C8F94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310F-B1A5-47E1-B64A-0A74F139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BC0-4E41-467E-8FB9-26B35E07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130B-9C66-4FE1-A1DF-F45946EA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9DB0-C74A-46FE-917D-0E69846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8A92-6DC1-4E4C-804C-DCF4C38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B8EB-6A6D-4302-857C-00BCDBFA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6B91-E4E3-4687-B563-2A35DAF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4B7B-1765-496C-B4E4-F81589CB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C2DA-128D-4B68-95DE-24839EEE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BF47-4FDA-4B99-888D-06AFCC7A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93D1-9CF5-4A6F-8B9B-6570BD2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6FBF-4B15-4A40-B13A-860459A8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71E-4422-4828-A9BC-697B6EC3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2F26-859F-4442-BB66-AD1B030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D05C-DAC1-4D97-A6B7-FBAEE423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AA28-F658-4567-BFD6-E485D58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D2C6-3BE3-4AF2-80EA-E5690A9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9361-95B2-4DD5-A175-24B2F64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2CC8-3A87-45ED-9CB4-77E7810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F249-0DFF-4984-8E21-D960AEFF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2823-085D-415E-AEB1-580ECACC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58F1-DEB5-40CB-B141-E08C08F6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B736-1090-4E73-95B9-70B013E3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E83-DBB0-4138-842A-F07F6D8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17F3-B8BD-46EB-A88E-653C591F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F2F5-65BF-4A7E-A0B0-9D61925A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F157-422C-4334-84BE-1CCD9AB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3037-1231-4291-81A9-F9A480B3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15DD-780F-4AB1-A014-AD1FB64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640A-3EC6-4A88-B26A-CF370F7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B8F6-D6A7-44A0-8EB4-AF3C2A5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51CE-7B69-40EC-95C8-A85BFEF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37A8-94BD-4C67-9E35-B49E9D2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6E43-19A2-4C48-BB78-D18FA865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2D1-563C-4A97-B33E-16B3E299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D789-BF3B-4872-9367-D7BEC111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7A9C-9113-4F18-95E0-0FB64F8E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8437-7D60-46E9-BB88-64C38B9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B12F-4C3D-43A9-B7F4-B3E14C4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8A0B-7FB7-4504-9A65-9BCE9816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008F-E546-4F5F-B97C-06BA243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601B9-841E-442F-A71E-17D15F85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AB8C-D1D1-4554-AAA2-40FC9CAA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281E9-3EDD-4276-9A2A-4B5A3A8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13BA-397F-46A8-84CF-EFC6135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993-B164-4084-B6D9-A96F348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5114-BEB0-4E86-8CD3-7C3B8E18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769C-2DC1-43BE-AB2D-7ADA11B5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DFF8-3588-4D97-B5B7-8923992C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17F-0822-4E04-B45E-C8EB465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C7F-EAF9-4002-BF9C-C6B231D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2E5-24D6-43E2-A387-6152BEBB5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977E-7B75-4B09-B386-68CCE220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17F-0500-4AB8-9DBC-BDDD969477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1BB-21E1-47BA-A01B-72CFC77CE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BB28-2853-47C2-93B3-B612E15D9A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9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9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0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4EC-2409-453E-9354-7B1CD1B453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Key Term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pe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Underli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information that is relevant (relates to the topic)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s: evidence, definitions, explanations, descriptions, data/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s you are going to (or could) use for quotes in your ow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clai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ment(s) argued or stated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may not be directly written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228600"/>
          <a:ext cx="8686800" cy="688176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421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 reading strategy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istinct marks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# Pars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Underline clai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) Circle key terms, name, dates, peop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PENCI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6904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vidence Mark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Evid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220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Personal Experience (anecdotes/sto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atistic/Reason/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llusion (historical 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Authority and or quotes ( expert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Examples and or 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Analogy (comparison…like a long sim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Hypothetical Situatio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description of somethi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 Commentary (comments from author or oth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Ethos, Logs, Path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 rot="10800000">
            <a:off x="151560" y="199080"/>
            <a:ext cx="89917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27720" bIns="2772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8600" y="304920"/>
          <a:ext cx="8686800" cy="6413400"/>
        </p:xfrm>
        <a:graphic>
          <a:graphicData uri="http://schemas.openxmlformats.org/drawingml/2006/table">
            <a:tbl>
              <a:tblPr/>
              <a:tblGrid>
                <a:gridCol w="7010280"/>
                <a:gridCol w="1676520"/>
              </a:tblGrid>
              <a:tr h="86364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565600">
                <a:tc>
                  <a:txBody>
                    <a:bodyPr lIns="35640" rIns="35640" tIns="35640" bIns="35640" anchor="t">
                      <a:noAutofit/>
                    </a:bodyPr>
                    <a:p>
                      <a:pPr marL="495360" indent="-495360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[ bracket] &amp; label evid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Personal Exp. (anecdotes/stories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atistic/Fac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Allusion (historical reference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Authority (expert info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 Examples/quot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Analogy (comparison…like a long simile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 Hypothetical Sit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Commentary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Ethos, Logs, Patho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105520" y="275724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gin Mark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do I write in the Margins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non-linguistic represent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scribe what author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r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fine key terms, paraphra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how does it relate to me or wor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po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o ideas, arguments, claims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is author saying?, what do I understand, what is purpo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rt the 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author is saying/do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 rot="10800000">
            <a:off x="151560" y="151920"/>
            <a:ext cx="899172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2280" y="457200"/>
          <a:ext cx="8991720" cy="6019920"/>
        </p:xfrm>
        <a:graphic>
          <a:graphicData uri="http://schemas.openxmlformats.org/drawingml/2006/table">
            <a:tbl>
              <a:tblPr/>
              <a:tblGrid>
                <a:gridCol w="1752840"/>
                <a:gridCol w="7238880"/>
              </a:tblGrid>
              <a:tr h="12445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7540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ualiz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on-linguistic rep.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mariz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fy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define key terms, paraphrase, etc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nec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how does it relate to me or world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d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o ideas, arguments, claims, etc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s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what is author saying?, what do I understand, what is purpose, etc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t the Tex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what author is saying/doing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33520" y="199512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24240" y="320328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Marking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T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t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What is charting the micro-structure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what the author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he what)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uthor’s actions) in a p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ying ?s: what is this section about?, what info is being presented?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ing ?s (begin w/ VERB): Giving an example, interpreting data, summarizing research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Verbs: arguing, analyzing, comparing, explaining, summarizing,, predicting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rting the Micro-Structure Practice Article 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(handout)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mes-Washington Post—5-24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graph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grap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graph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*bile =a bitter green-brown liquid formed in the liver, which helps you to digest f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say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do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y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hood obesity has become an epidemic in America and parents may outlive their children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ing a direct quotation from a research project on childhood obesity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say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do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bile =a bitter green-brown liquid formed in the liver, which helps you to digest fa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say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do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Summa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  <a:ea typeface="ヒラギノ角ゴ ProN W3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52280" y="457200"/>
          <a:ext cx="8686800" cy="6046920"/>
        </p:xfrm>
        <a:graphic>
          <a:graphicData uri="http://schemas.openxmlformats.org/drawingml/2006/table">
            <a:tbl>
              <a:tblPr/>
              <a:tblGrid>
                <a:gridCol w="7162920"/>
                <a:gridCol w="1523880"/>
              </a:tblGrid>
              <a:tr h="4239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inguish between what the author is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y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the what) and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author’s actions) in a par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ying ?s: what is this section about?, what info is being presented?, et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ing ?s (begin w/ VERB): Giving an example, interpreting data, summarizing research, et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Verbs: arguing, analyzing, comparing, explaining, summarizing,, predicting, et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80720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28" name=""/>
          <p:cNvSpPr/>
          <p:nvPr/>
        </p:nvSpPr>
        <p:spPr>
          <a:xfrm>
            <a:off x="2514600" y="2895480"/>
            <a:ext cx="4038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rgument Statemen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an argument statement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troduce the text, the author, and provide comments about the author or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phrase or directly quote the author’s main claim (use a ver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Examp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her expository article “The Drug that Pretends it Isn’t,” Anna Quindlen-a Pulitzer Prize-winning journalist and novelist argues that “booze and beer are not the same as illegal drugs.  They’re worse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par. 4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  <a:ea typeface="ヒラギノ角ゴ ProN W3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228600" y="457200"/>
          <a:ext cx="8686800" cy="7113600"/>
        </p:xfrm>
        <a:graphic>
          <a:graphicData uri="http://schemas.openxmlformats.org/drawingml/2006/table">
            <a:tbl>
              <a:tblPr/>
              <a:tblGrid>
                <a:gridCol w="1447920"/>
                <a:gridCol w="7238880"/>
              </a:tblGrid>
              <a:tr h="45532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9999"/>
                          </a:solidFill>
                          <a:latin typeface="Arial"/>
                          <a:ea typeface="Arial"/>
                        </a:rPr>
                        <a:t>Step 1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Introduce text, author, &amp; provide comments about the author/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9999"/>
                          </a:solidFill>
                          <a:latin typeface="Arial"/>
                          <a:ea typeface="Arial"/>
                        </a:rPr>
                        <a:t>Step 2: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araphrase or directly quote author’s main claim (use a verb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9999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her expository article “The Drug that Pretends it Isn’t,” Anna Quindlen-a Pulitzer Prize-winning journalist and novelist argues that “booze and beer are not the same as illegal drugs.  They’re worse”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par. 4)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560320"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hetorical Préci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hetorical Préc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hetorical précis is a concise summary of an argument which demonstrates comprehension of complexities and nuan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1:  Introduce the writer/speaker, the text and the central cla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2:  Explain how the author develops/advances the arg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. 3:  state the author’s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4:  Describe intended audience and the author's relationship to the aud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5:  Explain the signific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  <a:ea typeface="ヒラギノ角ゴ ProN W3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228600"/>
          <a:ext cx="8688240" cy="6324120"/>
        </p:xfrm>
        <a:graphic>
          <a:graphicData uri="http://schemas.openxmlformats.org/drawingml/2006/table">
            <a:tbl>
              <a:tblPr/>
              <a:tblGrid>
                <a:gridCol w="7391520"/>
                <a:gridCol w="1296720"/>
              </a:tblGrid>
              <a:tr h="10681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256000"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a concise summa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1:  Introduce the writer/speaker, the text &amp; 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 clai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2:  Explain how the author develops/advances argum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. 3:  author’s purpo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4:  intended audience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5:  significa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pace-Taker Effect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etorical Précis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ocratic Semina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450" name="Picture 142" descr="Socratesclipart2"/>
          <p:cNvPicPr/>
          <p:nvPr/>
        </p:nvPicPr>
        <p:blipFill>
          <a:blip r:embed="rId1"/>
          <a:stretch/>
        </p:blipFill>
        <p:spPr>
          <a:xfrm>
            <a:off x="3200400" y="2590920"/>
            <a:ext cx="3200400" cy="27176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43"/>
          <p:cNvSpPr/>
          <p:nvPr/>
        </p:nvSpPr>
        <p:spPr>
          <a:xfrm>
            <a:off x="1371600" y="5562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49375"/>
                </a:solidFill>
                <a:latin typeface="Times-Italic"/>
              </a:rPr>
              <a:t>Where questions, not answers, are the driving force in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reading purpose (why are we reading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the 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uthor’s background info/bi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( squiggly line) unknown vocabular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f nee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p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5257800"/>
            <a:ext cx="1914480" cy="154080"/>
          </a:xfrm>
          <a:custGeom>
            <a:avLst/>
            <a:gdLst/>
            <a:ahLst/>
            <a:rect l="l" t="t" r="r" b="b"/>
            <a:pathLst>
              <a:path w="5321" h="431">
                <a:moveTo>
                  <a:pt x="3457" y="6896"/>
                </a:moveTo>
                <a:cubicBezTo>
                  <a:pt x="3414" y="6919"/>
                  <a:pt x="3474" y="6896"/>
                  <a:pt x="3447" y="6896"/>
                </a:cubicBezTo>
                <a:cubicBezTo>
                  <a:pt x="3457" y="6919"/>
                  <a:pt x="3451" y="6934"/>
                  <a:pt x="3467" y="6961"/>
                </a:cubicBezTo>
                <a:cubicBezTo>
                  <a:pt x="3486" y="6992"/>
                  <a:pt x="3506" y="7036"/>
                  <a:pt x="3531" y="7060"/>
                </a:cubicBezTo>
                <a:cubicBezTo>
                  <a:pt x="3579" y="7105"/>
                  <a:pt x="3603" y="7110"/>
                  <a:pt x="3663" y="7129"/>
                </a:cubicBezTo>
                <a:cubicBezTo>
                  <a:pt x="3723" y="7148"/>
                  <a:pt x="3777" y="7151"/>
                  <a:pt x="3840" y="7154"/>
                </a:cubicBezTo>
                <a:cubicBezTo>
                  <a:pt x="3922" y="7158"/>
                  <a:pt x="3996" y="7154"/>
                  <a:pt x="4066" y="7105"/>
                </a:cubicBezTo>
                <a:cubicBezTo>
                  <a:pt x="4128" y="7062"/>
                  <a:pt x="4178" y="7005"/>
                  <a:pt x="4238" y="6957"/>
                </a:cubicBezTo>
                <a:cubicBezTo>
                  <a:pt x="4258" y="6941"/>
                  <a:pt x="4294" y="6900"/>
                  <a:pt x="4321" y="6896"/>
                </a:cubicBezTo>
                <a:cubicBezTo>
                  <a:pt x="4386" y="6886"/>
                  <a:pt x="4440" y="6935"/>
                  <a:pt x="4483" y="6970"/>
                </a:cubicBezTo>
                <a:cubicBezTo>
                  <a:pt x="4513" y="6994"/>
                  <a:pt x="4529" y="7031"/>
                  <a:pt x="4562" y="7056"/>
                </a:cubicBezTo>
                <a:cubicBezTo>
                  <a:pt x="4593" y="7080"/>
                  <a:pt x="4624" y="7100"/>
                  <a:pt x="4660" y="7117"/>
                </a:cubicBezTo>
                <a:cubicBezTo>
                  <a:pt x="4718" y="7145"/>
                  <a:pt x="4745" y="7148"/>
                  <a:pt x="4807" y="7133"/>
                </a:cubicBezTo>
                <a:cubicBezTo>
                  <a:pt x="4826" y="7128"/>
                  <a:pt x="4853" y="7106"/>
                  <a:pt x="4871" y="7096"/>
                </a:cubicBezTo>
                <a:cubicBezTo>
                  <a:pt x="4903" y="7079"/>
                  <a:pt x="4933" y="7051"/>
                  <a:pt x="4964" y="7031"/>
                </a:cubicBezTo>
                <a:cubicBezTo>
                  <a:pt x="5031" y="6988"/>
                  <a:pt x="5101" y="6954"/>
                  <a:pt x="5170" y="6916"/>
                </a:cubicBezTo>
                <a:cubicBezTo>
                  <a:pt x="5210" y="6894"/>
                  <a:pt x="5279" y="6831"/>
                  <a:pt x="5327" y="6831"/>
                </a:cubicBezTo>
                <a:cubicBezTo>
                  <a:pt x="5338" y="6831"/>
                  <a:pt x="5356" y="6836"/>
                  <a:pt x="5366" y="6839"/>
                </a:cubicBezTo>
                <a:cubicBezTo>
                  <a:pt x="5415" y="6853"/>
                  <a:pt x="5464" y="6920"/>
                  <a:pt x="5499" y="6953"/>
                </a:cubicBezTo>
                <a:cubicBezTo>
                  <a:pt x="5538" y="6989"/>
                  <a:pt x="5594" y="7077"/>
                  <a:pt x="5646" y="7092"/>
                </a:cubicBezTo>
                <a:cubicBezTo>
                  <a:pt x="5676" y="7101"/>
                  <a:pt x="5705" y="7084"/>
                  <a:pt x="5735" y="7080"/>
                </a:cubicBezTo>
                <a:cubicBezTo>
                  <a:pt x="5840" y="7065"/>
                  <a:pt x="5915" y="6999"/>
                  <a:pt x="6004" y="6949"/>
                </a:cubicBezTo>
                <a:cubicBezTo>
                  <a:pt x="6059" y="6918"/>
                  <a:pt x="6116" y="6896"/>
                  <a:pt x="6176" y="6876"/>
                </a:cubicBezTo>
                <a:cubicBezTo>
                  <a:pt x="6211" y="6864"/>
                  <a:pt x="6255" y="6843"/>
                  <a:pt x="6294" y="6847"/>
                </a:cubicBezTo>
                <a:cubicBezTo>
                  <a:pt x="6314" y="6849"/>
                  <a:pt x="6340" y="6859"/>
                  <a:pt x="6358" y="6867"/>
                </a:cubicBezTo>
                <a:cubicBezTo>
                  <a:pt x="6406" y="6890"/>
                  <a:pt x="6431" y="6945"/>
                  <a:pt x="6485" y="6966"/>
                </a:cubicBezTo>
                <a:cubicBezTo>
                  <a:pt x="6516" y="6978"/>
                  <a:pt x="6558" y="6987"/>
                  <a:pt x="6589" y="6986"/>
                </a:cubicBezTo>
                <a:cubicBezTo>
                  <a:pt x="6659" y="6984"/>
                  <a:pt x="6703" y="6938"/>
                  <a:pt x="6765" y="6900"/>
                </a:cubicBezTo>
                <a:cubicBezTo>
                  <a:pt x="6817" y="6868"/>
                  <a:pt x="6865" y="6829"/>
                  <a:pt x="6917" y="6798"/>
                </a:cubicBezTo>
                <a:cubicBezTo>
                  <a:pt x="6955" y="6775"/>
                  <a:pt x="7026" y="6736"/>
                  <a:pt x="7069" y="6732"/>
                </a:cubicBezTo>
                <a:cubicBezTo>
                  <a:pt x="7130" y="6727"/>
                  <a:pt x="7170" y="6771"/>
                  <a:pt x="7207" y="6810"/>
                </a:cubicBezTo>
                <a:cubicBezTo>
                  <a:pt x="7240" y="6844"/>
                  <a:pt x="7235" y="6890"/>
                  <a:pt x="7290" y="6904"/>
                </a:cubicBezTo>
                <a:cubicBezTo>
                  <a:pt x="7334" y="6915"/>
                  <a:pt x="7381" y="6893"/>
                  <a:pt x="7423" y="6884"/>
                </a:cubicBezTo>
                <a:cubicBezTo>
                  <a:pt x="7498" y="6868"/>
                  <a:pt x="7570" y="6839"/>
                  <a:pt x="7644" y="6818"/>
                </a:cubicBezTo>
                <a:cubicBezTo>
                  <a:pt x="7702" y="6802"/>
                  <a:pt x="7760" y="6774"/>
                  <a:pt x="7820" y="6782"/>
                </a:cubicBezTo>
                <a:cubicBezTo>
                  <a:pt x="7868" y="6788"/>
                  <a:pt x="7891" y="6818"/>
                  <a:pt x="7933" y="6835"/>
                </a:cubicBezTo>
                <a:cubicBezTo>
                  <a:pt x="8051" y="6881"/>
                  <a:pt x="8186" y="6900"/>
                  <a:pt x="8316" y="6900"/>
                </a:cubicBezTo>
                <a:cubicBezTo>
                  <a:pt x="8416" y="6900"/>
                  <a:pt x="8548" y="6889"/>
                  <a:pt x="8640" y="6847"/>
                </a:cubicBezTo>
                <a:cubicBezTo>
                  <a:pt x="8686" y="6826"/>
                  <a:pt x="8722" y="6786"/>
                  <a:pt x="8763" y="6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453" name="Picture 141" descr="socratic seminar group"/>
          <p:cNvPicPr/>
          <p:nvPr/>
        </p:nvPicPr>
        <p:blipFill>
          <a:blip r:embed="rId1"/>
          <a:stretch/>
        </p:blipFill>
        <p:spPr>
          <a:xfrm>
            <a:off x="2133720" y="2819520"/>
            <a:ext cx="568800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1824480" y="609480"/>
            <a:ext cx="64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What does </a:t>
            </a:r>
            <a:r>
              <a:rPr b="1" i="1" lang="en-GB" sz="4400" spc="-1" strike="noStrike">
                <a:solidFill>
                  <a:srgbClr val="cc3300"/>
                </a:solidFill>
                <a:latin typeface="Times New Roman"/>
              </a:rPr>
              <a:t>Socratic</a:t>
            </a: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49520" y="1676520"/>
            <a:ext cx="8097840" cy="59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cratic comes from the n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Socrates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assical Greek philosopher who developed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Theory of Knowledg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rest way to attain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reliable knowledg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ough the practice of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discipline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conversation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i="1" lang="en-GB" sz="4000" spc="-1" strike="noStrike">
                <a:solidFill>
                  <a:srgbClr val="0000cc"/>
                </a:solidFill>
                <a:latin typeface="Times New Roman"/>
              </a:rPr>
              <a:t>dialect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2351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The Vi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es believed that enabling students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ink for themsel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was more important than filling their heads with                     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“right answ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29" descr="Socratesclipart2"/>
          <p:cNvPicPr/>
          <p:nvPr/>
        </p:nvPicPr>
        <p:blipFill>
          <a:blip r:embed="rId1"/>
          <a:stretch/>
        </p:blipFill>
        <p:spPr>
          <a:xfrm>
            <a:off x="5257800" y="3573360"/>
            <a:ext cx="35686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The Vi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s seek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deeper understand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of complex ideas through rigorously thoughtful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dialog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rather than by memorizing bits of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seminar"/>
          <p:cNvPicPr/>
          <p:nvPr/>
        </p:nvPicPr>
        <p:blipFill>
          <a:blip r:embed="rId1"/>
          <a:stretch/>
        </p:blipFill>
        <p:spPr>
          <a:xfrm>
            <a:off x="2133720" y="3505320"/>
            <a:ext cx="5773680" cy="30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 Socratic Semina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 Socratic seminar is a way of teaching founded by the Greek philosopher Soc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SimSun"/>
              </a:rPr>
              <a:t>students learn best by asking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t is the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SimSun"/>
              </a:rPr>
              <a:t>teacher’s job to moderate the discussion instead of leading the discu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MCj03790670000[1]"/>
          <p:cNvPicPr/>
          <p:nvPr/>
        </p:nvPicPr>
        <p:blipFill>
          <a:blip r:embed="rId1"/>
          <a:stretch/>
        </p:blipFill>
        <p:spPr>
          <a:xfrm>
            <a:off x="5345280" y="2019240"/>
            <a:ext cx="2195280" cy="31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What are Socratic Seminar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range from 30-5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ffective                                          Socratic Seminar                             creates 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as opposed to                                     debat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thinker female"/>
          <p:cNvPicPr/>
          <p:nvPr/>
        </p:nvPicPr>
        <p:blipFill>
          <a:blip r:embed="rId1"/>
          <a:stretch/>
        </p:blipFill>
        <p:spPr>
          <a:xfrm>
            <a:off x="5410080" y="2971800"/>
            <a:ext cx="319104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hy do we have Socratic Semina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cratic Seminars help us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SimSun"/>
              </a:rPr>
              <a:t>engage a text in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thought process is when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SimSun"/>
              </a:rPr>
              <a:t>we work together to 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 text it will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SimSun"/>
              </a:rPr>
              <a:t>help everyone’s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MCj04109170000[1]"/>
          <p:cNvPicPr/>
          <p:nvPr/>
        </p:nvPicPr>
        <p:blipFill>
          <a:blip r:embed="rId1"/>
          <a:stretch/>
        </p:blipFill>
        <p:spPr>
          <a:xfrm>
            <a:off x="4849920" y="2014560"/>
            <a:ext cx="35542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Starting Dialog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cc"/>
                </a:solidFill>
                <a:latin typeface="Arial"/>
              </a:rPr>
              <a:t>Asking question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the ke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 leader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Arial"/>
              </a:rPr>
              <a:t>prompt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the use of dialog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Participants learn to be less attached to their ideas and less reliant on persuasion for influencing opin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ialogue is a skill of collaboration that enables groups to                          </a:t>
            </a:r>
            <a:r>
              <a:rPr b="0" sz="2800" spc="-1" strike="noStrike">
                <a:solidFill>
                  <a:srgbClr val="0000cc"/>
                </a:solidFill>
                <a:latin typeface="Arial"/>
              </a:rPr>
              <a:t>create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cc"/>
                </a:solidFill>
                <a:latin typeface="Arial"/>
              </a:rPr>
              <a:t>collectiv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9" dur="1" fill="hold"/>
                                  <p:tgtEl>
                                    <p:spTgt spid="4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Starting Dialog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cc"/>
                </a:solidFill>
                <a:latin typeface="Arial"/>
              </a:rPr>
              <a:t>Student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Arial"/>
              </a:rPr>
              <a:t>must risk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aking mistakes in order to learn how to learn to think critically, and work collabora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Rectangle 5"/>
          <p:cNvSpPr/>
          <p:nvPr/>
        </p:nvSpPr>
        <p:spPr>
          <a:xfrm>
            <a:off x="1143000" y="32767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Teachers</a:t>
            </a:r>
            <a:r>
              <a:rPr b="1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3200" spc="-1" strike="noStrike" u="sng">
                <a:solidFill>
                  <a:srgbClr val="ffffff"/>
                </a:solidFill>
                <a:uFillTx/>
                <a:latin typeface="Arial"/>
              </a:rPr>
              <a:t>support</a:t>
            </a:r>
            <a:r>
              <a:rPr b="1" sz="3200" spc="-1" strike="noStrike">
                <a:solidFill>
                  <a:srgbClr val="ffffff"/>
                </a:solidFill>
                <a:latin typeface="Arial"/>
              </a:rPr>
              <a:t> this risk-taking when they take their own risks in                             learning how to improve                       themselves as tea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4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Dialogue is NOT Debat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2362320" y="1752480"/>
          <a:ext cx="502920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0292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28600" y="380880"/>
          <a:ext cx="8686800" cy="6645240"/>
        </p:xfrm>
        <a:graphic>
          <a:graphicData uri="http://schemas.openxmlformats.org/drawingml/2006/table">
            <a:tbl>
              <a:tblPr/>
              <a:tblGrid>
                <a:gridCol w="6810480"/>
                <a:gridCol w="1876320"/>
              </a:tblGrid>
              <a:tr h="39625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Purpo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y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hor’s background info/bias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pa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 squiggly line) unknown voca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5181120" y="1599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s other’s reflections will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mpr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own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uspending one'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es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spects oth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eks not to ali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that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lead to greater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pen-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1143000" y="1600200"/>
            <a:ext cx="4114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ends thinking to show that it is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for investing in one's belie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searches for weakn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buts contrary positions and may belittle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assumes a single right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ands a 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ebate                Dial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4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ur El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ective seminar consists of four interdependent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mina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ea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2"/>
          <p:cNvGraphicFramePr/>
          <p:nvPr/>
        </p:nvGraphicFramePr>
        <p:xfrm>
          <a:off x="5943600" y="4267080"/>
          <a:ext cx="266688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67080"/>
                    <a:ext cx="2666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minar text can be drawn from readings in literature, history, science, math, health, and philosophy or from works of art or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"/>
          <p:cNvGraphicFramePr/>
          <p:nvPr/>
        </p:nvGraphicFramePr>
        <p:xfrm>
          <a:off x="5257800" y="3827520"/>
          <a:ext cx="359568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827520"/>
                    <a:ext cx="35956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ic Seminar texts are chosen for thei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ichness in ideas, issues, and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heir ability to stimulate extended, thoughtful dialog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3886200" y="3809880"/>
          <a:ext cx="281952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9880"/>
                    <a:ext cx="28195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Ques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ning question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as no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flects a genuine curiosity on the part of the leader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black kid talking"/>
          <p:cNvPicPr/>
          <p:nvPr/>
        </p:nvPicPr>
        <p:blipFill>
          <a:blip r:embed="rId1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1447920" y="4114800"/>
            <a:ext cx="451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hould human embryos be cloned in order to save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Ques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ective opening question leads participant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ack to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y speculate, evaluate, define, and clarify the issues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es to the opening question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generate new ques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ine of inquiry evolves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n                       the sp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her than being predetermined by the lea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2"/>
          <p:cNvGraphicFramePr/>
          <p:nvPr/>
        </p:nvGraphicFramePr>
        <p:xfrm>
          <a:off x="7467480" y="4724280"/>
          <a:ext cx="128772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724280"/>
                    <a:ext cx="128772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4" dur="1" fill="hold"/>
                                  <p:tgtEl>
                                    <p:spTgt spid="5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ead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a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ual r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leader and particip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ciously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lea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thoughtful exploration of the ideas in the                     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seminar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particip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                actively engages in the                      group's exploration of                              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3" dur="1" fill="hold"/>
                                  <p:tgtEl>
                                    <p:spTgt spid="5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ead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nough to allow participants’ understandings to 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 willing to help                     participants explore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non-traditional ins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unexpected                          interpre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5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295280" y="5335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The Leader</a:t>
            </a:r>
            <a:r>
              <a:rPr b="0" lang="en-GB" sz="5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371600" y="1639800"/>
            <a:ext cx="70102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*dual role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leader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participant.</a:t>
            </a: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eps the discussion focused on the text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king follow-up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lping clarify positions when arguments become conf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volving reluctant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articipa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hare respons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quality of the semi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6"/>
          <p:cNvSpPr/>
          <p:nvPr/>
        </p:nvSpPr>
        <p:spPr>
          <a:xfrm>
            <a:off x="114300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when                     participant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the text closely         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ad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6" dur="1" fill="hold"/>
                                  <p:tgtEl>
                                    <p:spTgt spid="5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articipa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articipa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5"/>
          <p:cNvSpPr/>
          <p:nvPr/>
        </p:nvSpPr>
        <p:spPr>
          <a:xfrm>
            <a:off x="11430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ir ideas and                                       questions in response                                    to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idence                                    in the 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upport                                            thei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5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signing the Be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end of a successful Socratic Seminar, participants often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leave with more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han they brought 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73"/>
          <p:cNvSpPr/>
          <p:nvPr/>
        </p:nvSpPr>
        <p:spPr>
          <a:xfrm>
            <a:off x="5238720" y="4424400"/>
            <a:ext cx="6480" cy="1440"/>
          </a:xfrm>
          <a:prstGeom prst="pie">
            <a:avLst/>
          </a:prstGeom>
          <a:solidFill>
            <a:srgbClr val="e6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106"/>
          <p:cNvGrpSpPr/>
          <p:nvPr/>
        </p:nvGrpSpPr>
        <p:grpSpPr>
          <a:xfrm>
            <a:off x="3657600" y="3733920"/>
            <a:ext cx="2757240" cy="2674440"/>
            <a:chOff x="3657600" y="3733920"/>
            <a:chExt cx="2757240" cy="2674440"/>
          </a:xfrm>
        </p:grpSpPr>
        <p:sp>
          <p:nvSpPr>
            <p:cNvPr id="527" name="Freeform 6"/>
            <p:cNvSpPr/>
            <p:nvPr/>
          </p:nvSpPr>
          <p:spPr>
            <a:xfrm>
              <a:off x="3657600" y="6062400"/>
              <a:ext cx="498240" cy="34596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4487760" y="5788080"/>
              <a:ext cx="1714320" cy="44244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3848040" y="4581360"/>
              <a:ext cx="865080" cy="958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4728960" y="5197320"/>
              <a:ext cx="362160" cy="3427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5225760" y="5433840"/>
              <a:ext cx="113040" cy="1062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5354640" y="4495680"/>
              <a:ext cx="1033200" cy="104436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3673440" y="5540400"/>
              <a:ext cx="619200" cy="5965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570200" y="5540400"/>
              <a:ext cx="987480" cy="3456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5875200" y="5540400"/>
              <a:ext cx="539640" cy="175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3673440" y="4581360"/>
              <a:ext cx="1039680" cy="15555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354640" y="4495680"/>
              <a:ext cx="1060200" cy="12204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4570200" y="5197320"/>
              <a:ext cx="987480" cy="68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4419360" y="4606920"/>
              <a:ext cx="198720" cy="171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583160" y="4581360"/>
              <a:ext cx="1299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5627520" y="4521240"/>
              <a:ext cx="142920" cy="2566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246560" y="4944960"/>
              <a:ext cx="39600" cy="85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39"/>
            <p:cNvSpPr/>
            <p:nvPr/>
          </p:nvSpPr>
          <p:spPr>
            <a:xfrm>
              <a:off x="4441680" y="4778280"/>
              <a:ext cx="18108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40"/>
            <p:cNvSpPr/>
            <p:nvPr/>
          </p:nvSpPr>
          <p:spPr>
            <a:xfrm>
              <a:off x="5429160" y="4875120"/>
              <a:ext cx="81000" cy="155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1"/>
            <p:cNvSpPr/>
            <p:nvPr/>
          </p:nvSpPr>
          <p:spPr>
            <a:xfrm>
              <a:off x="5587920" y="4778280"/>
              <a:ext cx="12384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42"/>
            <p:cNvSpPr/>
            <p:nvPr/>
          </p:nvSpPr>
          <p:spPr>
            <a:xfrm>
              <a:off x="5749920" y="4833720"/>
              <a:ext cx="903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43"/>
            <p:cNvSpPr/>
            <p:nvPr/>
          </p:nvSpPr>
          <p:spPr>
            <a:xfrm>
              <a:off x="5860800" y="4917960"/>
              <a:ext cx="32040" cy="112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44"/>
            <p:cNvSpPr/>
            <p:nvPr/>
          </p:nvSpPr>
          <p:spPr>
            <a:xfrm>
              <a:off x="5945040" y="5002200"/>
              <a:ext cx="15840" cy="28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45"/>
            <p:cNvSpPr/>
            <p:nvPr/>
          </p:nvSpPr>
          <p:spPr>
            <a:xfrm>
              <a:off x="4636800" y="4778280"/>
              <a:ext cx="74880" cy="169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6"/>
            <p:cNvSpPr/>
            <p:nvPr/>
          </p:nvSpPr>
          <p:spPr>
            <a:xfrm>
              <a:off x="4043160" y="5476680"/>
              <a:ext cx="73080" cy="140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4819680" y="5311800"/>
              <a:ext cx="58680" cy="1789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5354640" y="5030640"/>
              <a:ext cx="736560" cy="460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>
              <a:off x="5918040" y="5394240"/>
              <a:ext cx="42840" cy="96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50"/>
            <p:cNvSpPr/>
            <p:nvPr/>
          </p:nvSpPr>
          <p:spPr>
            <a:xfrm>
              <a:off x="5992560" y="5324400"/>
              <a:ext cx="122400" cy="166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4108320" y="5030640"/>
              <a:ext cx="326880" cy="414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4527360" y="5030640"/>
              <a:ext cx="135000" cy="258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5610240" y="5030640"/>
              <a:ext cx="74520" cy="194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54"/>
            <p:cNvSpPr/>
            <p:nvPr/>
          </p:nvSpPr>
          <p:spPr>
            <a:xfrm>
              <a:off x="3973320" y="5491080"/>
              <a:ext cx="27324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55"/>
            <p:cNvSpPr/>
            <p:nvPr/>
          </p:nvSpPr>
          <p:spPr>
            <a:xfrm>
              <a:off x="4165560" y="5581440"/>
              <a:ext cx="81000" cy="52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56"/>
            <p:cNvSpPr/>
            <p:nvPr/>
          </p:nvSpPr>
          <p:spPr>
            <a:xfrm>
              <a:off x="4686120" y="5532480"/>
              <a:ext cx="46080" cy="101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57"/>
            <p:cNvSpPr/>
            <p:nvPr/>
          </p:nvSpPr>
          <p:spPr>
            <a:xfrm>
              <a:off x="4819680" y="5491080"/>
              <a:ext cx="8568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58"/>
            <p:cNvSpPr/>
            <p:nvPr/>
          </p:nvSpPr>
          <p:spPr>
            <a:xfrm>
              <a:off x="5783040" y="5491080"/>
              <a:ext cx="42732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59"/>
            <p:cNvSpPr/>
            <p:nvPr/>
          </p:nvSpPr>
          <p:spPr>
            <a:xfrm>
              <a:off x="4054320" y="5634000"/>
              <a:ext cx="11124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60"/>
            <p:cNvSpPr/>
            <p:nvPr/>
          </p:nvSpPr>
          <p:spPr>
            <a:xfrm>
              <a:off x="4084560" y="5634000"/>
              <a:ext cx="9036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61"/>
            <p:cNvSpPr/>
            <p:nvPr/>
          </p:nvSpPr>
          <p:spPr>
            <a:xfrm>
              <a:off x="4570200" y="5634000"/>
              <a:ext cx="18900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62"/>
            <p:cNvSpPr/>
            <p:nvPr/>
          </p:nvSpPr>
          <p:spPr>
            <a:xfrm>
              <a:off x="4854600" y="5634000"/>
              <a:ext cx="703080" cy="2185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3"/>
            <p:cNvSpPr/>
            <p:nvPr/>
          </p:nvSpPr>
          <p:spPr>
            <a:xfrm>
              <a:off x="6110280" y="5634000"/>
              <a:ext cx="100080" cy="392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64"/>
            <p:cNvSpPr/>
            <p:nvPr/>
          </p:nvSpPr>
          <p:spPr>
            <a:xfrm>
              <a:off x="3673440" y="5786280"/>
              <a:ext cx="198360" cy="350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65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66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67"/>
            <p:cNvSpPr/>
            <p:nvPr/>
          </p:nvSpPr>
          <p:spPr>
            <a:xfrm>
              <a:off x="4620960" y="4316400"/>
              <a:ext cx="9720" cy="1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68"/>
            <p:cNvSpPr/>
            <p:nvPr/>
          </p:nvSpPr>
          <p:spPr>
            <a:xfrm>
              <a:off x="4670280" y="4010040"/>
              <a:ext cx="371520" cy="3060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69"/>
            <p:cNvSpPr/>
            <p:nvPr/>
          </p:nvSpPr>
          <p:spPr>
            <a:xfrm>
              <a:off x="5105160" y="4233600"/>
              <a:ext cx="239760" cy="824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70"/>
            <p:cNvSpPr/>
            <p:nvPr/>
          </p:nvSpPr>
          <p:spPr>
            <a:xfrm>
              <a:off x="5367240" y="4302000"/>
              <a:ext cx="23760" cy="140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71"/>
            <p:cNvSpPr/>
            <p:nvPr/>
          </p:nvSpPr>
          <p:spPr>
            <a:xfrm>
              <a:off x="4703760" y="4749840"/>
              <a:ext cx="141120" cy="55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72"/>
            <p:cNvSpPr/>
            <p:nvPr/>
          </p:nvSpPr>
          <p:spPr>
            <a:xfrm>
              <a:off x="4581360" y="4316400"/>
              <a:ext cx="812880" cy="48852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74"/>
            <p:cNvSpPr/>
            <p:nvPr/>
          </p:nvSpPr>
          <p:spPr>
            <a:xfrm>
              <a:off x="5114880" y="4316400"/>
              <a:ext cx="276120" cy="82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75"/>
            <p:cNvSpPr/>
            <p:nvPr/>
          </p:nvSpPr>
          <p:spPr>
            <a:xfrm>
              <a:off x="4500360" y="4805280"/>
              <a:ext cx="4017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76"/>
            <p:cNvSpPr/>
            <p:nvPr/>
          </p:nvSpPr>
          <p:spPr>
            <a:xfrm>
              <a:off x="5057640" y="4875120"/>
              <a:ext cx="289080" cy="5187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77"/>
            <p:cNvSpPr/>
            <p:nvPr/>
          </p:nvSpPr>
          <p:spPr>
            <a:xfrm>
              <a:off x="5224320" y="4805280"/>
              <a:ext cx="4143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78"/>
            <p:cNvSpPr/>
            <p:nvPr/>
          </p:nvSpPr>
          <p:spPr>
            <a:xfrm>
              <a:off x="4965480" y="4805280"/>
              <a:ext cx="139680" cy="568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79"/>
            <p:cNvSpPr/>
            <p:nvPr/>
          </p:nvSpPr>
          <p:spPr>
            <a:xfrm>
              <a:off x="3811320" y="5394240"/>
              <a:ext cx="868680" cy="9774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80"/>
            <p:cNvSpPr/>
            <p:nvPr/>
          </p:nvSpPr>
          <p:spPr>
            <a:xfrm>
              <a:off x="5205240" y="5394240"/>
              <a:ext cx="996840" cy="831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81"/>
            <p:cNvSpPr/>
            <p:nvPr/>
          </p:nvSpPr>
          <p:spPr>
            <a:xfrm>
              <a:off x="5608440" y="5394240"/>
              <a:ext cx="768600" cy="5169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82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83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84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85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86"/>
            <p:cNvSpPr/>
            <p:nvPr/>
          </p:nvSpPr>
          <p:spPr>
            <a:xfrm>
              <a:off x="4908600" y="4619520"/>
              <a:ext cx="301320" cy="43920"/>
            </a:xfrm>
            <a:prstGeom prst="pie">
              <a:avLst/>
            </a:prstGeom>
            <a:solidFill>
              <a:srgbClr val="cc7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87"/>
            <p:cNvSpPr/>
            <p:nvPr/>
          </p:nvSpPr>
          <p:spPr>
            <a:xfrm>
              <a:off x="4908600" y="4640040"/>
              <a:ext cx="301320" cy="66240"/>
            </a:xfrm>
            <a:prstGeom prst="pie">
              <a:avLst/>
            </a:prstGeom>
            <a:solidFill>
              <a:srgbClr val="ff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88"/>
            <p:cNvSpPr/>
            <p:nvPr/>
          </p:nvSpPr>
          <p:spPr>
            <a:xfrm>
              <a:off x="4871880" y="4848120"/>
              <a:ext cx="330120" cy="379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89"/>
            <p:cNvSpPr/>
            <p:nvPr/>
          </p:nvSpPr>
          <p:spPr>
            <a:xfrm>
              <a:off x="4914720" y="4690800"/>
              <a:ext cx="352440" cy="71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90"/>
            <p:cNvSpPr/>
            <p:nvPr/>
          </p:nvSpPr>
          <p:spPr>
            <a:xfrm>
              <a:off x="4630680" y="4387680"/>
              <a:ext cx="47520" cy="15372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91"/>
            <p:cNvSpPr/>
            <p:nvPr/>
          </p:nvSpPr>
          <p:spPr>
            <a:xfrm>
              <a:off x="5449680" y="4427280"/>
              <a:ext cx="52560" cy="98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92"/>
            <p:cNvSpPr/>
            <p:nvPr/>
          </p:nvSpPr>
          <p:spPr>
            <a:xfrm>
              <a:off x="4786200" y="4281480"/>
              <a:ext cx="18720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93"/>
            <p:cNvSpPr/>
            <p:nvPr/>
          </p:nvSpPr>
          <p:spPr>
            <a:xfrm>
              <a:off x="5143320" y="4281480"/>
              <a:ext cx="18108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94"/>
            <p:cNvSpPr/>
            <p:nvPr/>
          </p:nvSpPr>
          <p:spPr>
            <a:xfrm>
              <a:off x="4713120" y="4203720"/>
              <a:ext cx="309600" cy="694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95"/>
            <p:cNvSpPr/>
            <p:nvPr/>
          </p:nvSpPr>
          <p:spPr>
            <a:xfrm>
              <a:off x="5118120" y="4205160"/>
              <a:ext cx="261720" cy="6804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96"/>
            <p:cNvSpPr/>
            <p:nvPr/>
          </p:nvSpPr>
          <p:spPr>
            <a:xfrm>
              <a:off x="4819680" y="4284720"/>
              <a:ext cx="1364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97"/>
            <p:cNvSpPr/>
            <p:nvPr/>
          </p:nvSpPr>
          <p:spPr>
            <a:xfrm>
              <a:off x="5163840" y="4284720"/>
              <a:ext cx="13680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98"/>
            <p:cNvSpPr/>
            <p:nvPr/>
          </p:nvSpPr>
          <p:spPr>
            <a:xfrm>
              <a:off x="5157720" y="4287600"/>
              <a:ext cx="16668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99"/>
            <p:cNvSpPr/>
            <p:nvPr/>
          </p:nvSpPr>
          <p:spPr>
            <a:xfrm>
              <a:off x="4798800" y="4287600"/>
              <a:ext cx="1634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00"/>
            <p:cNvSpPr/>
            <p:nvPr/>
          </p:nvSpPr>
          <p:spPr>
            <a:xfrm>
              <a:off x="4962240" y="4505040"/>
              <a:ext cx="842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01"/>
            <p:cNvSpPr/>
            <p:nvPr/>
          </p:nvSpPr>
          <p:spPr>
            <a:xfrm>
              <a:off x="5076720" y="4505040"/>
              <a:ext cx="824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02"/>
            <p:cNvSpPr/>
            <p:nvPr/>
          </p:nvSpPr>
          <p:spPr>
            <a:xfrm>
              <a:off x="4878360" y="4325760"/>
              <a:ext cx="205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03"/>
            <p:cNvSpPr/>
            <p:nvPr/>
          </p:nvSpPr>
          <p:spPr>
            <a:xfrm>
              <a:off x="5209920" y="4325760"/>
              <a:ext cx="288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04"/>
            <p:cNvSpPr/>
            <p:nvPr/>
          </p:nvSpPr>
          <p:spPr>
            <a:xfrm>
              <a:off x="4713120" y="4721040"/>
              <a:ext cx="679320" cy="141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05"/>
            <p:cNvSpPr/>
            <p:nvPr/>
          </p:nvSpPr>
          <p:spPr>
            <a:xfrm>
              <a:off x="4914720" y="4732200"/>
              <a:ext cx="341280" cy="9504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Benefits includ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to engage 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-de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scussions, problem solving, and clarifica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a strong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collabo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ork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Enhanced 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research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creased 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re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iverse ideas,         people, an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positive learning                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2"/>
          <p:cNvGraphicFramePr/>
          <p:nvPr/>
        </p:nvGraphicFramePr>
        <p:xfrm>
          <a:off x="7543800" y="4038480"/>
          <a:ext cx="107316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038480"/>
                    <a:ext cx="107316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6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1371600" y="2666880"/>
            <a:ext cx="708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14300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    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SET UP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380880" y="15238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ks arranged in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given in adv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45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er is ready with an opening ques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nts respond with textual evidence for sup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nts respond with questions to information   they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do not raise ha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lect and Debrie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ability through final written pi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6" name="Object 8"/>
          <p:cNvGraphicFramePr/>
          <p:nvPr/>
        </p:nvGraphicFramePr>
        <p:xfrm>
          <a:off x="5029200" y="609480"/>
          <a:ext cx="31240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609480"/>
                    <a:ext cx="3124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380880" y="3049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Expectations of Participant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295280" y="990720"/>
            <a:ext cx="7620120" cy="62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Did I…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peak loudly and clearly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Cite reasons and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evidence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for my statement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Use the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text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to find suppor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Listen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to others respectfully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tick with the subjec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alk to others, not just to the leader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araphrase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accurate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void inappropriate languag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sk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questions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to clear up confusion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upport other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void hostile exchang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Question others in a civil manner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repared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cratic Semina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cratic comes from the name 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Soc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lassical Greek philos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SimSun"/>
              </a:rPr>
              <a:t>students learn best by ask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nars creat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shar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and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search for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vidence in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uppor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do not raise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28600" y="304920"/>
          <a:ext cx="8686800" cy="624780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90576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34204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ratic comes from the name </a:t>
                      </a:r>
                      <a:r>
                        <a:rPr b="0" lang="en-GB" sz="2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Socrates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 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lassical Greek philosophe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ocrates believed that: </a:t>
                      </a:r>
                      <a:r>
                        <a:rPr b="0" lang="en-US" sz="2600" spc="-1" strike="noStrike">
                          <a:solidFill>
                            <a:srgbClr val="d8d8ec"/>
                          </a:solidFill>
                          <a:latin typeface="Arial"/>
                          <a:ea typeface="SimSun"/>
                        </a:rPr>
                        <a:t>students learn best by asking ques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inars create </a:t>
                      </a: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dialogu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ot deb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nts</a:t>
                      </a: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 share</a:t>
                      </a: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as and questions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nts search for </a:t>
                      </a: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vidence in the tex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support idea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nts do not raise hand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arking the T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e reading strategy that asks students to identify information in the text that is relevant (relates to)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mbering Para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, # each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&amp;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Cir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3:47:02Z</dcterms:created>
  <dc:creator>teacher</dc:creator>
  <dc:description/>
  <dc:language>en-US</dc:language>
  <cp:lastModifiedBy>Nvasquez</cp:lastModifiedBy>
  <dcterms:modified xsi:type="dcterms:W3CDTF">2010-05-13T18:06:51Z</dcterms:modified>
  <cp:revision>53</cp:revision>
  <dc:subject/>
  <dc:title>Marking the Text</dc:title>
</cp:coreProperties>
</file>